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465-4DDB-4EC7-9B59-E5D4F73A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437-99EB-48B8-800B-235FC10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780-51F6-4B7E-BCA3-65180C5A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FCA-0A68-49E9-9FAA-ECFB5FD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20F6-8207-41A8-A140-C3B00475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ADB5-6F47-4339-9F41-159D794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043-AE38-494E-B11E-4F9B5E2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ED67-065B-4BB0-9C6C-580643C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F90F-A7D2-4FB2-9470-711B797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C683-8982-4586-9E79-2C510F7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50EB-8FA6-486D-BD6F-461BDBD2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B0D-1580-4A64-8E7A-B3A0F77C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1B1-2116-4B2D-BC5F-2E00D4FB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6F6-AEA6-46A1-885B-7199C22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C13F-00AF-48C4-8292-9FF865C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0E3-10BC-4B4C-BBFF-F5A06949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87B-6BAC-4B30-AFA8-104EF8C9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4043-2F1E-4B0C-81F9-61ED0235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546E-DD68-43E8-861D-DB8A40BF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BD20-F274-433B-B7B0-97DD3DA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F2C1-AE66-4E54-BECD-6F564EC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FD67-E181-45E2-BE5C-4073253B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445-C890-4F3A-837D-00C0549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832F-D281-4890-94AF-0219E61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0262-7570-4E31-9D7B-51C7D11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B4D8-7DC4-4C14-B316-3B9D023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65B2-E561-44E5-8C5D-EAD9A2E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E266-0411-4AE2-8E68-70BA5764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061B-64D1-419B-B682-238C2DA5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962E-28F4-4BA0-A891-77AF5285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EE18-B1DC-4EA6-89C9-85A5BA42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1DF1-7B17-4026-AE0A-A87CE800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756E-F8B2-4A44-B595-B05AFD2F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FE6-13C3-4669-AE65-E7F69AE7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9C16-45AB-4BC6-8BA3-874F2106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3460F-6B41-4BDE-A3FC-20FE2FA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5A00-F1B2-40A4-9ED0-E1ED436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EE1C-A077-4A80-9B75-2B4A022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B43F-E418-43D3-BADA-B47B2B67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FDCC-9636-4E6E-AA16-4968C02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58D6-7EF8-409B-A14F-50031191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F854-FF7D-4424-BBA9-EFDE0E6E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18F0-DF71-4765-98A1-7A99881E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C0A2-FCED-4E2D-A7F6-669AD2E2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26C-B712-4543-94D9-9672BD9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8318-6966-44B8-8D24-88B982AC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F709-A891-4250-B124-29A25728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6C39-8AA1-4E45-BF10-9F4628C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266F-B002-46D5-B194-C24495A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963A-9F7C-411F-9201-D6D425FA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DEA1-2DDC-4D8B-8A96-405FDDF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2F8E-F4D9-4BF8-8EF4-AEEC0F2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FB85-05BB-4DF8-B6F1-384F65F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4012-5188-406A-B728-9B6D2102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BCBE-BEEA-40CD-B86F-4103A70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9DD-739D-4969-8B20-386619DA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CAEC-A57F-4342-B3F3-DC5E3B85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2F1B-4E47-4610-9A9E-DF3AD1A9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CF151-2808-4C3A-B251-67EA10AB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2859B-F2FF-4267-AD19-C5CBC25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5EDBE-5F04-4B76-88D9-39893079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F8D8-2C82-4447-AD3B-AC622D8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AF671-2BA1-4D85-9B85-FD5D103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F370-C2B2-4CC5-8CA2-02AFC714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4006-302B-42E7-BC03-4DD09A9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E5F9-9A92-401F-BFC1-E811D47E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B8C-BDD7-4107-A3BE-D9C89EF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39D92-B1C8-4F9E-ADBD-BD398E92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9AEAE-6073-4849-B4B2-E0ECCB63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FAFE-0B6C-474E-81CF-6522F204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2C177-5BB6-42BC-9339-7AD1D074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2A0B-A9AC-4558-A9CB-00A89880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E2A3-7E58-48B2-A2A0-AC4CC21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FC0F-39B4-4DC7-A476-35CF0B2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F7A2-F528-4AE7-8A29-DA690688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8B6B-E9DD-4C17-94B3-01DACF8B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1BE6D-857E-4333-8BAA-4C7DF8D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369-81A6-4350-8E62-88808BAA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51FC-6409-4552-9518-C29E003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718A-6E4A-4B0B-AA48-27FAFC8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0F8F-1A96-4845-80EF-01F9B5D9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106AF-0A19-468C-8D62-5AED2BAF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F38B-62FC-47C5-A5A8-E4839C7B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70D23-7A7B-41C5-B0B1-16469757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58D2A-5BB4-47D4-8FA7-9E45BE9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4862-DFD3-4FFF-9FAB-BA30B20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5A45-40FF-4125-9D55-D664CBC1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041DA-FEA4-42B3-9611-3679525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18F-31D2-4996-9EAA-9A721BB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A809-9EF7-45DC-9C65-1DD66E15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664A-53D2-4033-A157-3D8240E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B6277-7BBE-43EA-A725-3EE0C64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14786-20B8-452A-B096-3914690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D2EB0-89D3-4C6F-91C4-7CEC128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E7EC-8FBE-4001-9AF9-8745D9D1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0635-DE32-4D59-9EF9-493AA266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22E-69C1-4A90-A5B4-A783EC6BA35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42A-75B8-40AE-98CA-AEEBFAB27BD6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DA1-46E1-457D-B46F-B406E325116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5CF9-77A6-405A-8D86-8A60078BA12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AB8B-0BE0-4F74-8CF1-BADC6533F8B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8A5-7A6E-4036-9011-2C38B242C33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179-70BE-4A7D-85F5-800CC004AF8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65B-DF3F-45E2-8261-AE84C8FAAA6E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5196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in purpose of an economic system is to answer these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goods and services do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people need or wa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can we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produ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these goods and servic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we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distribu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eeds would be defined as goods o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rvices that are required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food, clothing, shelter, health ca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nts are goods or services that 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ot necessary but that we desire o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ish fo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needs clothes, but one may not need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er cloth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needs food, but does not have to have stea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r desser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57200" y="1481040"/>
          <a:ext cx="8229600" cy="375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W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ufacturing, mining or growing something (usually in large quantities) for sal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can also be selling ideas, information or knowledge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you get the thing you produced to th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who want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2:53:46Z</dcterms:created>
  <dc:creator>ladmin</dc:creator>
  <dc:description/>
  <dc:language>en-US</dc:language>
  <cp:lastModifiedBy>Terry, Sean J. (ASD-E)</cp:lastModifiedBy>
  <dcterms:modified xsi:type="dcterms:W3CDTF">2015-09-25T01:14:00Z</dcterms:modified>
  <cp:revision>59</cp:revision>
  <dc:subject/>
  <dc:title>Economic Empowerment</dc:title>
</cp:coreProperties>
</file>